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5FC-8E3F-49DC-AB2D-4F966FD5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AB8-75F1-477D-9822-C3385371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8AE-305C-455A-9214-7E4DDBCC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5F1-CD27-4899-9604-92638CEF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AE6A-D06C-4438-9865-1B26192E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1D3-108A-4522-B150-5FFA0823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81A6-D7CD-429B-9B47-C55C1E2E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3689-81AF-442F-AAF7-77A4AC72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094D-7F06-4697-A651-5421C020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2B6-AC83-41B5-9102-87DD2ADB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0DDF-55D1-40F5-B429-A99C4A5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813-BA12-42CD-BAED-4D78CB1F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5513-7BF6-4B66-8E93-66D51310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96AB-6C66-4A34-8530-F022DF0A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CE50-9304-4639-8297-95726D00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A3E8-CC82-435B-BD44-05746614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8516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1109-1BBD-447D-A259-C897E661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8B1-EC2B-4016-8D7F-0F035702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2FC-23C7-4759-84B3-D410F3EC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479-F78C-47D7-8EC1-C5F2A620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0D5-C946-4625-B016-BC907496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998-7B62-42B5-A31F-A05A1A7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16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5E7-537B-456B-BAB6-89957F7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1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055-B433-4DD7-B4C1-046C040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4D1C-2148-4F2D-A3C8-30132DD1BE4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66290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44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0BF5-7166-478F-B515-BA5A037B7E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2E44-AF58-4FF8-9B0D-6CF167404D3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CA09-2D04-406A-B851-33C8C71A70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aintStroke"/>
              </a:rPr>
              <a:t>Flowers for Algerno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Plotline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intStroke"/>
              </a:rPr>
              <a:t>Isn’t it A-MAZE-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As we have seen, the plotline to </a:t>
            </a:r>
            <a:r>
              <a:rPr b="1" i="1" lang="en-US" sz="3200" spc="-1" strike="noStrike">
                <a:solidFill>
                  <a:srgbClr val="000000"/>
                </a:solidFill>
                <a:latin typeface="Architect"/>
              </a:rPr>
              <a:t>Flowers For Algernon</a:t>
            </a: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 is based on Charlie Gordon’s operation and intellig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As we read the story, we can use a plot line to chart the intro, rising action, crisis and climax based on Charlie’s intellectual development</a:t>
            </a: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913-C8B9-4302-A927-77FE8E11AA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14E5A-CA6D-4707-99A9-EB6441FF4E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54936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On a new sheet of paper, sketch out a plot line for FFA.  You can begin by filling in intro (setting, tone, etc).  This may be in poin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ip#1:   Begin with JUST the intro and Rising Action.  There’s a lot to fill in, so you may not have room for the rest on on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ip#2:  Use a text box w/ 12pt type to make it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262-34A2-48C8-AD08-C41E3CFC60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0F768-D76D-44EA-BABA-F57209E327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chitect"/>
              </a:rPr>
              <a:t>Charlie’s intellectu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971640" y="1267920"/>
            <a:ext cx="6408720" cy="396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084640"/>
            <a:ext cx="230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 / Hospital / Happy tone / Charlie is main char.  Has low-i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869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r 19). Char. gets surge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4508640"/>
            <a:ext cx="20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5 Mar) Spelling and sentences impr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4221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Apr)  Beats Al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37162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6 – 18 Apr)  Punctuation, is, FUN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D6C2-76BD-477B-BA3E-DA8C0BDB7C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DD3FB-D483-4B22-9D9D-8589A1904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47592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This is a work-in-progress.  To make for easy access during class, please save it to your desktop </a:t>
            </a:r>
            <a:r>
              <a:rPr b="1" i="1" lang="en-US" sz="3200" spc="-1" strike="noStrike">
                <a:solidFill>
                  <a:srgbClr val="000000"/>
                </a:solidFill>
                <a:latin typeface="Architect"/>
              </a:rPr>
              <a:t>(Charlie’s Intellectual Progr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chite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chitect"/>
              </a:rPr>
              <a:t>You will be referring to this activity when it comes time for your project, so make it as complet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AD7-BDE1-4ED4-9666-86170E6BBD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F56D-A28F-47EB-A07C-1ADC691C09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14:34:10Z</dcterms:created>
  <dc:creator>Administrator</dc:creator>
  <dc:description/>
  <dc:language>en-US</dc:language>
  <cp:lastModifiedBy>Administrator</cp:lastModifiedBy>
  <dcterms:modified xsi:type="dcterms:W3CDTF">2006-01-16T13:22:14Z</dcterms:modified>
  <cp:revision>9</cp:revision>
  <dc:subject/>
  <dc:title>Flowers for Algernon </dc:title>
</cp:coreProperties>
</file>